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F844A3-CF17-45C4-A821-FD445582B1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895120" y="27432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09440"/>
            <a:ext cx="82296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4052E3-C63B-4919-90FA-34FB0DBE48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895120" y="27432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09440"/>
            <a:ext cx="40158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09440"/>
            <a:ext cx="40158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0183D4-B2DA-41B3-B95A-ED3ED7D169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895120" y="27432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09440"/>
            <a:ext cx="26496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09440"/>
            <a:ext cx="26496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09440"/>
            <a:ext cx="26496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5845D0-4278-479D-9135-BB1446E553F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95120" y="27432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9F8941-B64E-42E4-844C-8B4C5D59654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95120" y="27432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BB0455-324E-45AC-873D-7160180553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895120" y="27432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4C56E8-FF7A-483E-90C3-6FA9496925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95120" y="27432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12772B-533D-496F-A1B4-B74078AC0A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895120" y="274320"/>
            <a:ext cx="5791320" cy="29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3C6A9E-9117-4194-8B9C-368D78641A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895120" y="27432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09440"/>
            <a:ext cx="40158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2CCB7F-6930-4D7B-BA32-FF49E63C71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895120" y="27432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09440"/>
            <a:ext cx="40158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9FCFFB-CB92-4990-9D47-4ED408B140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895120" y="27432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09440"/>
            <a:ext cx="82296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0FEC8A-8911-45A1-A81D-905E8B9E67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8" descr="amahi-logo"/>
          <p:cNvPicPr/>
          <p:nvPr/>
        </p:nvPicPr>
        <p:blipFill>
          <a:blip r:embed="rId2"/>
          <a:stretch/>
        </p:blipFill>
        <p:spPr>
          <a:xfrm>
            <a:off x="254160" y="146160"/>
            <a:ext cx="2539800" cy="7938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95120" y="27432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55272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C7148-4058-4062-967A-5308C44162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400440"/>
            <a:ext cx="289584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ahi Confidenti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13"/>
          <p:cNvSpPr/>
          <p:nvPr/>
        </p:nvSpPr>
        <p:spPr>
          <a:xfrm>
            <a:off x="387360" y="6172200"/>
            <a:ext cx="8361360" cy="152280"/>
          </a:xfrm>
          <a:prstGeom prst="rect">
            <a:avLst/>
          </a:prstGeom>
          <a:solidFill>
            <a:srgbClr val="969ea8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8" descr="menu-sub-bg"/>
          <p:cNvPicPr/>
          <p:nvPr/>
        </p:nvPicPr>
        <p:blipFill>
          <a:blip r:embed="rId3"/>
          <a:stretch/>
        </p:blipFill>
        <p:spPr>
          <a:xfrm>
            <a:off x="380880" y="914400"/>
            <a:ext cx="8382240" cy="152280"/>
          </a:xfrm>
          <a:prstGeom prst="rect">
            <a:avLst/>
          </a:prstGeom>
          <a:ln w="0">
            <a:noFill/>
          </a:ln>
        </p:spPr>
      </p:pic>
      <p:sp>
        <p:nvSpPr>
          <p:cNvPr id="7" name="AutoShape 15"/>
          <p:cNvSpPr/>
          <p:nvPr/>
        </p:nvSpPr>
        <p:spPr>
          <a:xfrm>
            <a:off x="380880" y="895320"/>
            <a:ext cx="8382240" cy="5429160"/>
          </a:xfrm>
          <a:prstGeom prst="roundRect">
            <a:avLst>
              <a:gd name="adj" fmla="val 625"/>
            </a:avLst>
          </a:prstGeom>
          <a:noFill/>
          <a:ln w="31680">
            <a:solidFill>
              <a:srgbClr val="dfdf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iki.amahi.org/index.php/Contributor" TargetMode="Externa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forums.amahi.org/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setup/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coppermine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iki.amahi.org/index.php/Application_Packaging" TargetMode="External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Slide Number Placeholder 3"/>
          <p:cNvSpPr/>
          <p:nvPr/>
        </p:nvSpPr>
        <p:spPr>
          <a:xfrm>
            <a:off x="6553080" y="6400800"/>
            <a:ext cx="213372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20F0F-69EF-4198-90F8-AFF1C78DCE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787480" y="225000"/>
            <a:ext cx="600408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torial On Packaging Apps fo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Click Instal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3"/>
          <p:cNvSpPr/>
          <p:nvPr/>
        </p:nvSpPr>
        <p:spPr>
          <a:xfrm>
            <a:off x="798480" y="1192320"/>
            <a:ext cx="7620120" cy="71748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add8ad"/>
              </a:gs>
            </a:gsLst>
            <a:lin ang="5400000"/>
          </a:gradFill>
          <a:ln w="255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0"/>
          <p:cNvSpPr/>
          <p:nvPr/>
        </p:nvSpPr>
        <p:spPr>
          <a:xfrm>
            <a:off x="843120" y="1227240"/>
            <a:ext cx="758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 tutorial describing how to package application for one-click installation on Amahi. The basic process 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85960" y="2238480"/>
            <a:ext cx="2533680" cy="809640"/>
          </a:xfrm>
          <a:custGeom>
            <a:avLst/>
            <a:gdLst>
              <a:gd name="textAreaLeft" fmla="*/ 0 w 2533680"/>
              <a:gd name="textAreaRight" fmla="*/ 2534040 w 2533680"/>
              <a:gd name="textAreaTop" fmla="*/ 0 h 809640"/>
              <a:gd name="textAreaBottom" fmla="*/ 810000 h 80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923" y="0"/>
                </a:lnTo>
                <a:lnTo>
                  <a:pt x="21600" y="10800"/>
                </a:lnTo>
                <a:lnTo>
                  <a:pt x="19923" y="21600"/>
                </a:lnTo>
                <a:lnTo>
                  <a:pt x="0" y="21600"/>
                </a:lnTo>
                <a:lnTo>
                  <a:pt x="1677" y="10800"/>
                </a:lnTo>
                <a:close/>
              </a:path>
            </a:pathLst>
          </a:custGeom>
          <a:solidFill>
            <a:srgbClr val="dfdfd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uall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all 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33600" y="2238480"/>
            <a:ext cx="2533680" cy="809640"/>
          </a:xfrm>
          <a:custGeom>
            <a:avLst/>
            <a:gdLst>
              <a:gd name="textAreaLeft" fmla="*/ 0 w 2533680"/>
              <a:gd name="textAreaRight" fmla="*/ 2534040 w 2533680"/>
              <a:gd name="textAreaTop" fmla="*/ 0 h 809640"/>
              <a:gd name="textAreaBottom" fmla="*/ 810000 h 80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923" y="0"/>
                </a:lnTo>
                <a:lnTo>
                  <a:pt x="21600" y="10800"/>
                </a:lnTo>
                <a:lnTo>
                  <a:pt x="19923" y="21600"/>
                </a:lnTo>
                <a:lnTo>
                  <a:pt x="0" y="21600"/>
                </a:lnTo>
                <a:lnTo>
                  <a:pt x="1677" y="10800"/>
                </a:lnTo>
                <a:close/>
              </a:path>
            </a:pathLst>
          </a:custGeom>
          <a:solidFill>
            <a:srgbClr val="dfdfd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y “Changes” to Autom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791320" y="2238480"/>
            <a:ext cx="2533680" cy="809640"/>
          </a:xfrm>
          <a:custGeom>
            <a:avLst/>
            <a:gdLst>
              <a:gd name="textAreaLeft" fmla="*/ 0 w 2533680"/>
              <a:gd name="textAreaRight" fmla="*/ 2534040 w 2533680"/>
              <a:gd name="textAreaTop" fmla="*/ 0 h 809640"/>
              <a:gd name="textAreaBottom" fmla="*/ 810000 h 80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923" y="0"/>
                </a:lnTo>
                <a:lnTo>
                  <a:pt x="21600" y="10800"/>
                </a:lnTo>
                <a:lnTo>
                  <a:pt x="19923" y="21600"/>
                </a:lnTo>
                <a:lnTo>
                  <a:pt x="0" y="21600"/>
                </a:lnTo>
                <a:lnTo>
                  <a:pt x="1677" y="10800"/>
                </a:lnTo>
                <a:close/>
              </a:path>
            </a:pathLst>
          </a:custGeom>
          <a:solidFill>
            <a:srgbClr val="dfdfd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lete “one-click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allation 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47800" y="3133800"/>
            <a:ext cx="2352600" cy="30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14480" indent="-114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a Web App Directory using the Amahi User Inte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wnload the install package from the original s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lete installation instru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324240" y="3133800"/>
            <a:ext cx="2352600" cy="30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113040" indent="-113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view chan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ig fi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ba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PMs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thers (?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3040" indent="-113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rk out the steps to create the chan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3040" indent="-113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the ‘scripts’ requi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800680" y="3133800"/>
            <a:ext cx="2352600" cy="30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14480" indent="-114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a Web App Directory using the Amahi User Inte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wnload the install package from the original s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lete installation instru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933480" y="2209680"/>
            <a:ext cx="49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352680" y="2181240"/>
            <a:ext cx="49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791320" y="2181240"/>
            <a:ext cx="49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37240" y="6370560"/>
            <a:ext cx="764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e: Refer to wiki for details -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iki.amahi.org/index.php/Contributor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380520" y="2161800"/>
            <a:ext cx="8410680" cy="267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f you get stuck, don’t hesitate to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e by the IRC chann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t questions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forums.amahi.org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2647440" y="274320"/>
            <a:ext cx="60390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647440" y="274320"/>
            <a:ext cx="60390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(a) Manually Install the App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71160" y="2076120"/>
            <a:ext cx="841068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oto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setu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lect the Web App tab (‘soon’ to be a sub-menu in the Applications ta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36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ate a new Web App ‘coppermine’, this creates the director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/var/hda/web-apps/coppermine/html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 your H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a command prompt in the directory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/var/hda/web-apps/copperm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wnload the installation pack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wget http://superb-west.dl.sourceforge.net/sourceforge/coppermine/cpg1.4.21.tar.bz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zip/Untar the pack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ar –xvf cpg1.4.21.tar.bz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py the contents of the unzipped web app folder into the html fol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p –rf cpg14x/* 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3"/>
          <p:cNvSpPr/>
          <p:nvPr/>
        </p:nvSpPr>
        <p:spPr>
          <a:xfrm>
            <a:off x="798480" y="1192320"/>
            <a:ext cx="7620120" cy="71748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add8ad"/>
              </a:gs>
            </a:gsLst>
            <a:lin ang="5400000"/>
          </a:gradFill>
          <a:ln w="255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0"/>
          <p:cNvSpPr/>
          <p:nvPr/>
        </p:nvSpPr>
        <p:spPr>
          <a:xfrm>
            <a:off x="843120" y="1217520"/>
            <a:ext cx="758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is tutorial will use the application “Coppermine Gallery” as an examp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647440" y="274320"/>
            <a:ext cx="60390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(b) Manually Install the App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71160" y="2076120"/>
            <a:ext cx="841068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y to launch the Application: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copperm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won’t work and will redirect you to complete the instal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3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llow the instructions to complete the instal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te: the one-click installer normally runs as the apache user, so changing the permissions will not be required in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3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eate the database for use by coppermine using the comm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hda-create-db-and-user copperm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creates a database with user and password named coppermin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3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so, there is an RPM required: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yum install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mageMagi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are now ready to find the files/database create/edited by the installation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3"/>
          <p:cNvSpPr/>
          <p:nvPr/>
        </p:nvSpPr>
        <p:spPr>
          <a:xfrm>
            <a:off x="798480" y="1192320"/>
            <a:ext cx="7620120" cy="71748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add8ad"/>
              </a:gs>
            </a:gsLst>
            <a:lin ang="5400000"/>
          </a:gradFill>
          <a:ln w="255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0"/>
          <p:cNvSpPr/>
          <p:nvPr/>
        </p:nvSpPr>
        <p:spPr>
          <a:xfrm>
            <a:off x="843120" y="1360440"/>
            <a:ext cx="758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omplete the install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733920" y="4572000"/>
            <a:ext cx="1047600" cy="457200"/>
          </a:xfrm>
          <a:prstGeom prst="downArrow">
            <a:avLst>
              <a:gd name="adj1" fmla="val 50000"/>
              <a:gd name="adj2" fmla="val 52083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647440" y="274320"/>
            <a:ext cx="60390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(a) Specify Changes to Auto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71160" y="2076120"/>
            <a:ext cx="841068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ok to see what installation files have changed. The “brute force method” is to take a “difference” of the original unzipped directory and the installed direc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diff –r –N –U3 /var/hda/web-apps/coppermine/cpg14x /var/hda/web-apps/coppermine/html &gt; diff.install.t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can view the created text fil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iff.install.tx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you can see the files edi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3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clude/config.inc.ph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3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clude/install.lo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is file you will create part of the install script (each diff command can be used to apply the changes to the original files!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13"/>
          <p:cNvSpPr/>
          <p:nvPr/>
        </p:nvSpPr>
        <p:spPr>
          <a:xfrm>
            <a:off x="798480" y="1192320"/>
            <a:ext cx="7620120" cy="71748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add8ad"/>
              </a:gs>
            </a:gsLst>
            <a:lin ang="5400000"/>
          </a:gradFill>
          <a:ln w="255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0"/>
          <p:cNvSpPr/>
          <p:nvPr/>
        </p:nvSpPr>
        <p:spPr>
          <a:xfrm>
            <a:off x="843120" y="1360440"/>
            <a:ext cx="758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eek out and understand the changes performed by the install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647440" y="274320"/>
            <a:ext cx="60390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(b) Specify Changes to Auto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71160" y="2076120"/>
            <a:ext cx="841068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6080" indent="-226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ok for the database creation script in the install directory. You will find three .sql script fil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9040" indent="-1695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hema.Sql, basic.sql, update.sq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on inspection the first two have to be run to create the databas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erimenting with these shows they are NOT complete enough to build the installed database – we will use another method to do this. From the command line dump the databas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9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mysqldump –-add-drop-table –u coppermine –pcoppermine coppermine &gt;db.t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(unfortunately this makes a file too big to be in the install scrip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aring the dump with the schema.sql file, a smaller install script for the database can be created – (see next page for the MySQL script!)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3"/>
          <p:cNvSpPr/>
          <p:nvPr/>
        </p:nvSpPr>
        <p:spPr>
          <a:xfrm>
            <a:off x="798480" y="1192320"/>
            <a:ext cx="7620120" cy="71748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add8ad"/>
              </a:gs>
            </a:gsLst>
            <a:lin ang="5400000"/>
          </a:gradFill>
          <a:ln w="255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0"/>
          <p:cNvSpPr/>
          <p:nvPr/>
        </p:nvSpPr>
        <p:spPr>
          <a:xfrm>
            <a:off x="843120" y="1360440"/>
            <a:ext cx="758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ee how the database was created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895120" y="27432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Supplemental Install Script for D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76280" y="2013120"/>
            <a:ext cx="8115120" cy="48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ET @scc     = @@character_set_clien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ET character_set_client = utf8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SERT INTO `CPG_bridge` VALUES ('short_name',''),('license_number',''),('db_database_name',''),('db_hostname',''),('db_username',''),('db_password',''),('full_forum_url',''),('relative_path_of_forum_from_webroot',''),('relative_path_to_config_file',''),('logout_flag',''),('use_post_based_groups',''),('cookie_prefix',''),('table_prefix',''),('user_table',''),('session_table',''),('group_table',''),('group_relation_table',''),('group_mapping_table',''),('use_standard_groups','1'),('validating_group',''),('guest_group',''),('member_group',''),('admin_group',''),('banned_group',''),('global_moderators_group',''),('recovery_logon_failures','0'),('recovery_logon_timestamp','')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SERT INTO `CPG_categories` VALUES (1,0,'User galleries','This category contains albums that belong to Coppermine users.',0,0,0)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SERT INTO `CPG_config` VALUES ('albums_per_page','12'),('album_list_cols','2'),('display_pic_info','0'),('alb_list_thumb_size','50'),('allowed_mov_types','ALL'),('allowed_doc_types','doc/txt/rtf/pdf/xls/pps/ppt/zip/gz/mdb'),('allowed_snd_types','mp3/midi/mid/wma/wav/ogg'),('allowed_img_types','ALL'),('allow_private_albums','1'),('allow_user_registration','0'),('allow_unlogged_access','1'),('allow_duplicate_emails_addr','0'),('caption_in_thumbview','1'),('views_in_thumbview','1'),('charset','utf-8'),('cookie_name','coppermine'),('cookie_path','/'),('debug_mode','0'),('debug_notice','0'),('default_dir_mode','0755'),('default_file_mode','0644'),('default_sort_order','na'),('ecards_more_pic_target','http://coppermine.sourceforge.net/'),('home_target','index.php'),('custom_lnk_name',''),('custom_lnk_url',''),('enable_smilies','1'),('filter_bad_words','0'),('forbiden_fname_char','$/\\\\:*?&amp;quot;\'&amp;lt;&amp;gt;|` &amp;amp;'),('fullpath','albums/'),('gallery_admin_email','you@somewhere.com'),('gallery_description','Your online photo album'),('gallery_name','Coppermine Photo Gallery'),('im_options','-antialias'),('impath',''),('jpeg_qual','80'),('keep_votes_time','30'),('lang','english'),('main_page_layout','breadcrumb/catlist/alblist/random,2/lastup,2'),('main_table_width','100%'),('make_intermediate','1'),('max_com_lines','10'),('max_com_size','512'),('max_com_wlength','38'),('max_img_desc_length','512'),('max_tabs','12'),('max_upl_size','1024'),('max_upl_width_height','2048'),('auto_resize','0'),('min_votes_for_rating','1'),('normal_pfx','normal_'),('offline','0'),('picture_table_width','600'),('picture_width','400'),('read_exif_data','0'),('reg_requires_valid_email','1'),('subcat_level','2'),('theme','core'),('thumbcols','4'),('thumbrows','3'),('thumb_method','im'),('thumb_pfx','thumb_'),('thumb_width','100'),('userpics','userpics/'),('vanity_block','1'),('user_profile1_name','Location'),('user_profile2_name','Interests'),('user_profile3_name','Website'),('user_profile4_name','Occupation'),('user_profile5_name',''),('user_profile6_name','Biography'),('user_field1_name',''),('user_field2_name',''),('user_field3_name',''),('user_field4_name',''),('display_comment_count','0'),('show_private','0'),('first_level','1'),('display_film_strip','1'),('display_film_strip_filename','0'),('max_film_strip_items','5'),('thumb_use','any'),('read_iptc_data','0'),('reg_notify_admin_email','0'),('disable_comment_flood_protect','0'),('upl_notify_admin_email','0'),('display_uploader','0'),('display_filename','0'),('language_list','0'),('language_flags','0'),('theme_list','0'),('language_reset','1'),('theme_reset','1'),('allow_memberlist','0'),('display_faq','0'),('show_bbcode_help','1'),('log_ecards','0'),('email_comment_notification','0'),('enable_zipdownload','1'),('slideshow_interval','5000'),('log_mode','0'),('media_autostart','1'),('enable_encrypted_passwords','1'),('time_offset','0'),('ban_private_ip','0'),('smtp_host',''),('smtp_username',''),('smtp_password',''),('enable_plugins','1'),('enable_help','2'),('categories_alpha_sort','0'),('login_threshold','5'),('login_expiry','10'),('allow_email_change','0'),('clickable_keyword_search','1'),('users_can_edit_pics','0'),('show_which_exif','|0|0|0|0|0|0|0|0|1|0|1|1|0|0|0|0|0|0|0|0|0|0|0|1|0|0|0|1|0|0|0|1|1|0|0|0|0|1|0|0|0|1|0|0|1|1|0|0|0|0|0|1|0|1|1'),('link_pic_count','0'),('bridge_enable','0'),('language_fallback','1'),('vote_details','0'),('hit_details','0'),('browse_batch_add','1'),('custom_header_path',''),('custom_footer_path',''),('comments_sort_descending','0'),('report_post','0'),('comments_anon_pfx','Guest_'),('admin_activation','0')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SERT INTO `CPG_filetypes` VALUES ('jpg','image/jpg','image',''),('jpeg','image/jpeg','image',''),('jpe','image/jpe','image',''),('gif','image/gif','image',''),('png','image/png','image',''),('bmp','image/bmp','image',''),('jpc','image/jpc','image',''),('jp2','image/jp2','image',''),('jpx','image/jpx','image',''),('jb2','image/jb2','image',''),('swc','image/swc','image',''),('iff','image/iff','image',''),('asf','video/x-ms-asf','movie','WMP'),('asx','video/x-ms-asx','movie','WMP'),('mpg','video/mpeg','movie','WMP'),('mpeg','video/mpeg','movie','WMP'),('wmv','video/x-ms-wmv','movie','WMP'),('swf','application/x-shockwave-flash','movie','SWF'),('avi','video/avi','movie','WMP'),('mov','video/quicktime','movie','QT'),('mp3','audio/mpeg3','audio','WMP'),('midi','audio/midi','audio','WMP'),('mid','audio/midi','audio','WMP'),('wma','audio/x-ms-wma','audio','WMP'),('wav','audio/wav','audio','WMP'),('ogg','audio/ogg','audio',''),('psd','image/psd','image',''),('ram','audio/x-pn-realaudio','document','RMP'),('ra','audio/x-realaudio','document','RMP'),('rm','audio/x-realmedia','document','RMP'),('tiff','image/tiff','document',''),('tif','image/tif','document',''),('doc','application/msword','document',''),('txt','text/plain','document',''),('rtf','text/richtext','document',''),('pdf','application/pdf','document',''),('xls','application/excel','document',''),('pps','application/powerpoint','document',''),('ppt','application/powerpoint','document',''),('zip','application/zip','document',''),('rar','application/rar','document',''),('gz','application/gz','document',''),('mdb','application/msaccess','document','')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SERT INTO `CPG_usergroups` VALUES (1,'Administrators',0,1,1,1,1,1,1,0,0,3,0,5,3),(2,'Registered',1024,0,1,1,1,1,1,1,0,3,0,5,3),(3,'Anonymous',0,0,1,0,0,0,0,1,1,0,0,5,3),(4,'Banned',0,0,0,0,0,0,0,1,1,0,0,5,3)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REATE TABLE `cpg14x_albums` (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aid` int(11) NOT NULL auto_increment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title` varchar(255) NOT NULL default ''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description` text NOT NULL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visibility` int(11) NOT NULL default '0'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uploads` enum('YES','NO') NOT NULL default 'NO'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comments` enum('YES','NO') NOT NULL default 'YES'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votes` enum('YES','NO') NOT NULL default 'YES'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pos` int(11) NOT NULL default '0'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category` int(11) NOT NULL default '0'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thumb` int(11) NOT NULL default '0'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keyword` varchar(50) default NULL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alb_password` varchar(32) default NULL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alb_password_hint` text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RIMARY KEY  (`aid`)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EY `alb_category` (`category`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) ENGINE=MyISAM DEFAULT CHARSET=latin1 COMMENT='Used to store albums'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ET character_set_client = @scc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REATE TABLE `cpg14x_banned` (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ban_id` int(11) NOT NULL auto_increment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user_id` int(11) default NULL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ip_addr` tinytext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expiry` datetime default NULL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brute_force` tinyint(5) NOT NULL default '0'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RIMARY KEY  (`ban_id`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) ENGINE=MyISAM DEFAULT CHARSET=latin1 COMMENT='Data about banned users'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ET character_set_client = @scc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REATE TABLE `cpg14x_bridge` (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name` varchar(40) NOT NULL default '0'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value` varchar(255) NOT NULL default ''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UNIQUE KEY `name` (`name`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) ENGINE=MyISAM DEFAULT CHARSET=latin1 COMMENT='Stores the bridging data, not used when unbridged'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ET character_set_client = @scc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SERT INTO `cpg14x_bridge` VALUES ('short_name',''),('license_number',''),('db_database_name',''),('db_hostname',''),('db_username',''),('db_password',''),('full_forum_url',''),('relative_path_of_forum_from_webroot',''),('relative_path_to_config_file',''),('logout_flag',''),('use_post_based_groups',''),('cookie_prefix',''),('table_prefix',''),('user_table',''),('session_table',''),('group_table',''),('group_relation_table',''),('group_mapping_table',''),('use_standard_groups','1'),('validating_group',''),('guest_group',''),('member_group',''),('admin_group',''),('banned_group',''),('global_moderators_group',''),('recovery_logon_failures','0'),('recovery_logon_timestamp','')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REATE TABLE `cpg14x_categories` (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cid` int(11) NOT NULL auto_increment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owner_id` int(11) NOT NULL default '0'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name` varchar(255) NOT NULL default ''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description` text NOT NULL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pos` int(11) NOT NULL default '0'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parent` int(11) NOT NULL default '0'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thumb` int(11) NOT NULL default '0'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RIMARY KEY  (`cid`)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EY `cat_parent` (`parent`)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EY `cat_pos` (`pos`)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EY `cat_owner_id` (`owner_id`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) ENGINE=MyISAM AUTO_INCREMENT=2 DEFAULT CHARSET=latin1 COMMENT='Used to store categories'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ET character_set_client = @scc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SERT INTO `cpg14x_categories` VALUES (1,0,'User galleries','This category contains albums that belong to Coppermine users.',0,0,0)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REATE TABLE `cpg14x_comments` (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pid` mediumint(10) NOT NULL default '0'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msg_id` mediumint(10) NOT NULL auto_increment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msg_author` varchar(25) NOT NULL default ''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msg_body` text NOT NULL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msg_date` datetime NOT NULL default '0000-00-00 00:00:00'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msg_raw_ip` tinytext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msg_hdr_ip` tinytext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author_md5_id` varchar(32) NOT NULL default ''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author_id` int(11) NOT NULL default '0'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RIMARY KEY  (`msg_id`)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EY `com_pic_id` (`pid`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) ENGINE=MyISAM DEFAULT CHARSET=latin1 COMMENT='Used to store comments made on pics'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ET character_set_client = @scc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REATE TABLE `cpg14x_config` (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name` varchar(40) NOT NULL default ''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value` varchar(255) NOT NULL default ''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RIMARY KEY  (`name`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) ENGINE=MyISAM DEFAULT CHARSET=latin1 COMMENT='Used to store the configuration options'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ET character_set_client = @scc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SERT INTO `cpg14x_config` VALUES ('albums_per_page','12'),('album_list_cols','2'),('display_pic_info','0'),('alb_list_thumb_size','50'),('allowed_mov_types','ALL'),('allowed_doc_types','doc/txt/rtf/pdf/xls/pps/ppt/zip/gz/mdb'),('allowed_snd_types','mp3/midi/mid/wma/wav/ogg'),('allowed_img_types','ALL'),('allow_private_albums','1'),('allow_user_registration','0'),('allow_unlogged_access','1'),('allow_duplicate_emails_addr','0'),('caption_in_thumbview','1'),('views_in_thumbview','1'),('charset','utf-8'),('cookie_name','coppermine'),('cookie_path','/'),('debug_mode','0'),('debug_notice','0'),('default_dir_mode','0755'),('default_file_mode','0644'),('default_sort_order','na'),('ecards_more_pic_target','http://coppermine/'),('home_target','index.php'),('custom_lnk_name',''),('custom_lnk_url',''),('enable_smilies','1'),('filter_bad_words','0'),('forbiden_fname_char','$/\\\\:*?&amp;quot;\'&amp;lt;&amp;gt;|` &amp;amp;'),('fullpath','albums/'),('gallery_admin_email',''),('gallery_description','Your online photo album'),('gallery_name','Coppermine Photo Gallery'),('im_options','-antialias'),('impath','/usr/bin/'),('jpeg_qual','80'),('keep_votes_time','30'),('lang','english'),('main_page_layout','breadcrumb/catlist/alblist/random,2/lastup,2'),('main_table_width','100%'),('make_intermediate','1'),('max_com_lines','10'),('max_com_size','512'),('max_com_wlength','38'),('max_img_desc_length','512'),('max_tabs','12'),('max_upl_size','1024'),('max_upl_width_height','2048'),('auto_resize','0'),('min_votes_for_rating','1'),('normal_pfx','normal_'),('offline','0'),('picture_table_width','600'),('picture_width','400'),('read_exif_data','0'),('reg_requires_valid_email','1'),('subcat_level','2'),('theme','core'),('thumbcols','4'),('thumbrows','3'),('thumb_method','im'),('thumb_pfx','thumb_'),('thumb_width','100'),('userpics','userpics/'),('vanity_block','1'),('user_profile1_name','Location'),('user_profile2_name','Interests'),('user_profile3_name','Website'),('user_profile4_name','Occupation'),('user_profile5_name',''),('user_profile6_name','Biography'),('user_field1_name',''),('user_field2_name',''),('user_field3_name',''),('user_field4_name',''),('display_comment_count','0'),('show_private','0'),('first_level','1'),('display_film_strip','1'),('display_film_strip_filename','0'),('max_film_strip_items','5'),('thumb_use','any'),('read_iptc_data','0'),('reg_notify_admin_email','0'),('disable_comment_flood_protect','0'),('upl_notify_admin_email','0'),('display_uploader','0'),('display_filename','0'),('language_list','0'),('language_flags','0'),('theme_list','0'),('language_reset','1'),('theme_reset','1'),('allow_memberlist','0'),('display_faq','0'),('show_bbcode_help','1'),('log_ecards','0'),('email_comment_notification','0'),('enable_zipdownload','1'),('slideshow_interval','5000'),('log_mode','0'),('media_autostart','1'),('enable_encrypted_passwords','1'),('time_offset','0'),('ban_private_ip','0'),('smtp_host',''),('smtp_username',''),('smtp_password',''),('enable_plugins','1'),('enable_help','2'),('categories_alpha_sort','0'),('login_threshold','5'),('login_expiry','10'),('allow_email_change','0'),('clickable_keyword_search','1'),('users_can_edit_pics','0'),('show_which_exif','|0|0|0|0|0|0|0|0|1|0|1|1|0|0|0|0|0|0|0|0|0|0|0|1|0|0|0|1|0|0|0|1|1|0|0|0|0|1|0|0|0|1|0|0|1|1|0|0|0|0|0|1|0|1|1'),('link_pic_count','0'),('bridge_enable','0'),('language_fallback','1'),('vote_details','0'),('hit_details','0'),('browse_batch_add','1'),('custom_header_path',''),('custom_footer_path',''),('comments_sort_descending','0'),('report_post','0'),('comments_anon_pfx','Guest_'),('admin_activation','0')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REATE TABLE `cpg14x_dict` (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keyId` bigint(20) NOT NULL auto_increment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keyword` varchar(60) NOT NULL default ''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RIMARY KEY  (`keyId`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) ENGINE=MyISAM DEFAULT CHARSET=latin1 COMMENT='Holds the keyword dictionary'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ET character_set_client = @scc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REATE TABLE `cpg14x_ecards` (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eid` int(11) NOT NULL auto_increment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sender_name` varchar(50) NOT NULL default ''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sender_email` text NOT NULL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recipient_name` varchar(50) NOT NULL default ''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recipient_email` text NOT NULL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link` text NOT NULL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date` tinytext NOT NULL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sender_ip` tinytext NOT NULL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RIMARY KEY  (`eid`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) ENGINE=MyISAM DEFAULT CHARSET=latin1 COMMENT='Used to log ecards'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ET character_set_client = @scc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REATE TABLE `cpg14x_exif` (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filename` varchar(255) NOT NULL default ''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exifData` text NOT NULL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UNIQUE KEY `filename` (`filename`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) ENGINE=MyISAM DEFAULT CHARSET=latin1 COMMENT='Stores EXIF data from individual pics'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ET character_set_client = @scc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REATE TABLE `cpg14x_favpics` (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user_id` int(11) NOT NULL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user_favpics` text NOT NULL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RIMARY KEY  (`user_id`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) ENGINE=MyISAM DEFAULT CHARSET=latin1 COMMENT='Stores the server side favourites'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ET character_set_client = @scc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REATE TABLE `cpg14x_filetypes` (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extension` char(7) NOT NULL default ''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mime` char(30) default NULL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content` char(15) default NULL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player` varchar(5) default NULL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RIMARY KEY  (`extension`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) ENGINE=MyISAM DEFAULT CHARSET=latin1 COMMENT='Used to store the file extensions'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ET character_set_client = @scc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SERT INTO `cpg14x_filetypes` VALUES ('jpg','image/jpg','image',''),('jpeg','image/jpeg','image',''),('jpe','image/jpe','image',''),('gif','image/gif','image',''),('png','image/png','image',''),('bmp','image/bmp','image',''),('jpc','image/jpc','image',''),('jp2','image/jp2','image',''),('jpx','image/jpx','image',''),('jb2','image/jb2','image',''),('swc','image/swc','image',''),('iff','image/iff','image',''),('asf','video/x-ms-asf','movie','WMP'),('asx','video/x-ms-asx','movie','WMP'),('mpg','video/mpeg','movie','WMP'),('mpeg','video/mpeg','movie','WMP'),('wmv','video/x-ms-wmv','movie','WMP'),('swf','application/x-shockwave-flash','movie','SWF'),('avi','video/avi','movie','WMP'),('mov','video/quicktime','movie','QT'),('mp3','audio/mpeg3','audio','WMP'),('midi','audio/midi','audio','WMP'),('mid','audio/midi','audio','WMP'),('wma','audio/x-ms-wma','audio','WMP'),('wav','audio/wav','audio','WMP'),('ogg','audio/ogg','audio',''),('psd','image/psd','image',''),('ram','audio/x-pn-realaudio','document','RMP'),('ra','audio/x-realaudio','document','RMP'),('rm','audio/x-realmedia','document','RMP'),('tiff','image/tiff','document',''),('tif','image/tif','document',''),('doc','application/msword','document',''),('txt','text/plain','document',''),('rtf','text/richtext','document',''),('pdf','application/pdf','document',''),('xls','application/excel','document',''),('pps','application/powerpoint','document',''),('ppt','application/powerpoint','document',''),('zip','application/zip','document',''),('rar','application/rar','document',''),('gz','application/gz','document',''),('mdb','application/msaccess','document','')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REATE TABLE `cpg14x_hit_stats` (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sid` int(11) NOT NULL auto_increment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pid` varchar(100) NOT NULL default ''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ip` varchar(20) NOT NULL default ''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search_phrase` varchar(255) NOT NULL default ''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sdate` bigint(20) NOT NULL default '0'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referer` text NOT NULL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browser` varchar(255) NOT NULL default ''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os` varchar(50) NOT NULL default ''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RIMARY KEY  (`sid`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) ENGINE=MyISAM DEFAULT CHARSET=latin1 COMMENT='Detailed stats about hits, only used when enabled'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ET character_set_client = @scc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REATE TABLE `cpg14x_pictures` (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pid` int(11) NOT NULL auto_increment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aid` int(11) NOT NULL default '0'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filepath` varchar(255) NOT NULL default ''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filename` varchar(255) NOT NULL default ''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filesize` int(11) NOT NULL default '0'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total_filesize` int(11) NOT NULL default '0'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pwidth` smallint(6) NOT NULL default '0'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pheight` smallint(6) NOT NULL default '0'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hits` int(10) NOT NULL default '0'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mtime` datetime NOT NULL default '0000-00-00 00:00:00'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ctime` int(11) NOT NULL default '0'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owner_id` int(11) NOT NULL default '0'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owner_name` varchar(40) NOT NULL default ''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pic_rating` int(11) NOT NULL default '0'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votes` int(11) NOT NULL default '0'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title` varchar(255) NOT NULL default ''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caption` text NOT NULL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keywords` varchar(255) NOT NULL default ''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approved` enum('YES','NO') NOT NULL default 'NO'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galleryicon` int(11) NOT NULL default '0'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user1` varchar(255) NOT NULL default ''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user2` varchar(255) NOT NULL default ''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user3` varchar(255) NOT NULL default ''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user4` varchar(255) NOT NULL default ''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url_prefix` tinyint(4) NOT NULL default '0'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pic_raw_ip` tinytext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pic_hdr_ip` tinytext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lasthit_ip` tinytext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position` int(11) NOT NULL default '0'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RIMARY KEY  (`pid`)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EY `owner_id` (`owner_id`)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EY `pic_hits` (`hits`)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EY `pic_rate` (`pic_rating`)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EY `aid_approved` (`aid`,`approved`)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EY `pic_aid` (`aid`)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ULLTEXT KEY `search` (`title`,`caption`,`keywords`,`filename`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) ENGINE=MyISAM DEFAULT CHARSET=latin1 COMMENT='Used to store data about individual pics'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ET character_set_client = @scc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REATE TABLE `cpg14x_plugins` (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plugin_id` int(10) unsigned NOT NULL auto_increment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name` varchar(64) NOT NULL default ''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path` varchar(128) NOT NULL default ''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priority` int(10) unsigned NOT NULL default '0'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RIMARY KEY  (`plugin_id`)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UNIQUE KEY `name` (`name`)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UNIQUE KEY `path` (`path`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) ENGINE=MyISAM DEFAULT CHARSET=latin1 COMMENT='Stores the plugins'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ET character_set_client = @scc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REATE TABLE `cpg14x_sessions` (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session_id` varchar(40) NOT NULL default ''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user_id` int(11) default '0'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time` int(11) default NULL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remember` int(1) default '0'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RIMARY KEY  (`session_id`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) ENGINE=MyISAM DEFAULT CHARSET=latin1 COMMENT='Used to store sessions'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ET character_set_client = @scc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SERT INTO `cpg14x_sessions` VALUES ('9517276809000de5031787e9e3f3645d',1,1240951164,0)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REATE TABLE `cpg14x_temp_data` (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unique_ID` char(8) NOT NULL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encoded_string` blob NOT NULL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timestamp` int(11) unsigned NOT NULL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RIMARY KEY  (`unique_ID`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) ENGINE=MyISAM DEFAULT CHARSET=latin1 COMMENT='Holds temporary file data for multiple file uploads'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ET character_set_client = @scc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REATE TABLE `cpg14x_usergroups` (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group_id` int(11) NOT NULL auto_increment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group_name` varchar(255) NOT NULL default ''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group_quota` int(11) NOT NULL default '0'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has_admin_access` tinyint(4) NOT NULL default '0'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can_rate_pictures` tinyint(4) NOT NULL default '0'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can_send_ecards` tinyint(4) NOT NULL default '0'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can_post_comments` tinyint(4) NOT NULL default '0'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can_upload_pictures` tinyint(4) NOT NULL default '0'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can_create_albums` tinyint(4) NOT NULL default '0'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pub_upl_need_approval` tinyint(4) NOT NULL default '1'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priv_upl_need_approval` tinyint(4) NOT NULL default '1'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upload_form_config` tinyint(4) NOT NULL default '3'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custom_user_upload` tinyint(4) NOT NULL default '0'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num_file_upload` tinyint(4) NOT NULL default '5'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num_URI_upload` tinyint(4) NOT NULL default '3'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RIMARY KEY  (`group_id`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) ENGINE=MyISAM AUTO_INCREMENT=5 DEFAULT CHARSET=latin1 COMMENT='Used to store user groups'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ET character_set_client = @scc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SERT INTO `cpg14x_usergroups` VALUES (1,'Administrators',0,1,1,1,1,1,1,0,0,3,0,5,3),(2,'Registered',1024,0,1,1,1,1,1,1,0,3,0,5,3),(3,'Anonymous',0,0,1,0,0,0,0,1,1,0,0,5,3),(4,'Banned',0,0,0,0,0,0,0,1,1,0,0,5,3)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REATE TABLE `cpg14x_users` (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user_id` int(11) NOT NULL auto_increment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user_group` int(11) NOT NULL default '2'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user_active` enum('YES','NO') NOT NULL default 'NO'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user_name` varchar(25) NOT NULL default ''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user_password` varchar(40) NOT NULL default ''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user_lastvisit` datetime NOT NULL default '0000-00-00 00:00:00'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user_regdate` datetime NOT NULL default '0000-00-00 00:00:00'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user_group_list` varchar(255) NOT NULL default ''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user_email` varchar(255) NOT NULL default ''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user_profile1` varchar(255) NOT NULL default ''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user_profile2` varchar(255) NOT NULL default ''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user_profile3` varchar(255) NOT NULL default ''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user_profile4` varchar(255) NOT NULL default ''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user_profile5` varchar(255) NOT NULL default ''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user_profile6` text NOT NULL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user_actkey` varchar(32) NOT NULL default ''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RIMARY KEY  (`user_id`)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UNIQUE KEY `user_name` (`user_name`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) ENGINE=MyISAM AUTO_INCREMENT=2 DEFAULT CHARSET=latin1 COMMENT='Used to store users, not used when bridged'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ET character_set_client = @scc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SERT INTO `cpg14x_users` VALUES (1,1,'YES','admin','21232f297a57a5a743894a0e4a801fc3','2009-04-28 13:39:21','2009-04-28 13:39:17','','','','','','','','','')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REATE TABLE `cpg14x_vote_stats` (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sid` int(11) NOT NULL auto_increment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pid` varchar(100) NOT NULL default ''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rating` smallint(6) NOT NULL default '0'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ip` varchar(20) NOT NULL default ''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sdate` bigint(20) NOT NULL default '0'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referer` text NOT NULL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browser` varchar(255) NOT NULL default ''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os` varchar(50) NOT NULL default ''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RIMARY KEY  (`sid`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) ENGINE=MyISAM DEFAULT CHARSET=latin1 COMMENT='Detailed stats about votes, only used when enabled'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ET character_set_client = @scc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REATE TABLE `cpg14x_votes` (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pic_id` mediumint(9) NOT NULL default '0'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user_md5_id` varchar(32) NOT NULL default ''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`vote_time` int(11) NOT NULL default '0'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RIMARY KEY  (`pic_id`,`user_md5_id`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) ENGINE=MyISAM DEFAULT CHARSET=latin1 COMMENT='Stores votes for individual pics'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ET character_set_client = @scc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23360" y="1077840"/>
            <a:ext cx="818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e: Download the file to see the actual text (if you want all the detail!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647440" y="274320"/>
            <a:ext cx="60390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Complete One-Click Install 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71160" y="2076120"/>
            <a:ext cx="841068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general this is the order of the process the one-click installer do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3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Install (if any) RPM dependen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3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Install (if any) RPM packages (cross check SHA1SUM for downloa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3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Create the “Web App” for the instal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3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 Download (if any) tarb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3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 cross check tarball SHA1SUM for validity of downlo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3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. untar the tarball (assume the tarball untars into a single fol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3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. rename the untarred folder ‘html’ in the install direc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13"/>
          <p:cNvSpPr/>
          <p:nvPr/>
        </p:nvSpPr>
        <p:spPr>
          <a:xfrm>
            <a:off x="798480" y="1192320"/>
            <a:ext cx="7620120" cy="71748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add8ad"/>
              </a:gs>
            </a:gsLst>
            <a:lin ang="5400000"/>
          </a:gradFill>
          <a:ln w="255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0"/>
          <p:cNvSpPr/>
          <p:nvPr/>
        </p:nvSpPr>
        <p:spPr>
          <a:xfrm>
            <a:off x="843120" y="1246320"/>
            <a:ext cx="758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is information is provided as backgrou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647440" y="274320"/>
            <a:ext cx="60390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(a). Complete One-Click Install 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71160" y="2076120"/>
            <a:ext cx="841068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cial things” (beyond the obvious) to complete for this instal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3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PM dependencies: ImageMagi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3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all script based on the diff file created, and the need to create the data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3"/>
          <p:cNvSpPr/>
          <p:nvPr/>
        </p:nvSpPr>
        <p:spPr>
          <a:xfrm>
            <a:off x="798480" y="1192320"/>
            <a:ext cx="7620120" cy="71748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add8ad"/>
              </a:gs>
            </a:gsLst>
            <a:lin ang="5400000"/>
          </a:gradFill>
          <a:ln w="255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0"/>
          <p:cNvSpPr/>
          <p:nvPr/>
        </p:nvSpPr>
        <p:spPr>
          <a:xfrm>
            <a:off x="843120" y="1246320"/>
            <a:ext cx="758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etails on the Field to complete are at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iki.amahi.org/index.php/Application_Packaging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961920" y="3714840"/>
            <a:ext cx="6915240" cy="231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atch –p0 –f –E &lt;&lt;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'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OF'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 /var/hda/web-apps/coppermine/cpg14x/include/config.inc.php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1969-12-31 16:00:00.000000000 -08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+++ /var/hda/web-apps/coppermine/html/include/config.inc.php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2009-04-28 13:22:42.000000000 -07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@@ -0,0 +1,13 @@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+&lt;?ph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+// Coppermine configuration fi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+// MySQL 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+$CONFIG['dbserver'] =                         'localhost';        // Your database serv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+$CONFIG['dbuser'] =                         'coppermine';        // Your mysql usernam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+$CONFIG['dbpass'] =                         'coppermine';                // Your mysql passwor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+$CONFIG['dbname'] =                         'coppermine';        // Your mysql database nam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+// MySQL TABLE NAMES PREFIX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+$CONFIG['TABLE_PREFIX'] =                'cpg14x_'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+?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O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961920" y="3381480"/>
            <a:ext cx="6915240" cy="33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ff for the config.inc.php f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371160" y="2571840"/>
            <a:ext cx="841068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the database for Coppermin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2647440" y="274320"/>
            <a:ext cx="60390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(b). Complete One-Click Install 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961920" y="1562040"/>
            <a:ext cx="6915240" cy="75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atch –p0 –f –E &lt;&lt;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'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OF'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@@ -0,0 +1 @@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+lock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O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961920" y="1228680"/>
            <a:ext cx="6915240" cy="33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ff for the install.lock f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942840" y="3067200"/>
            <a:ext cx="6915240" cy="2981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mysql –u coppermine –pcoppermine coppermine &lt; html/sql/schema.sq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mysql –u coppermine –pcoppermine coppermine &lt;&lt;'EOF'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ET @scc     = @@character_set_clien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ET character_set_client = utf8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SERT INTO `CPG_bridge` VALUES ('short_name',''),('license_number',''),('db_database_name',''),('db_hostname',''),('db_username',''),('db_password',''),('full_forum_url',''),('relative_path_of_forum_from_webroot',''),('relative_path_to_config_file',''),('logout_flag',''),('use_post_based_groups',''),('cookie_prefix',''),('table_prefix',''),('user_table',''),('session_table',''),('group_table',''),('group_relation_table',''),('group_mapping_table',''),('use_standard_groups','1'),('validating_group',''),('guest_group',''),('member_group',''),('admin_group',''),('banned_group',''),('global_moderators_group',''),('recovery_logon_failures','0'),('recovery_logon_timestamp','')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…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…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) ENGINE=MyISAM DEFAULT CHARSET=latin1 COMMENT='Stores votes for individual pics'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ET character_set_client = @scc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O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4457880" y="4890960"/>
          <a:ext cx="914400" cy="71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57880" y="4890960"/>
                    <a:ext cx="914400" cy="7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" name=""/>
          <p:cNvSpPr/>
          <p:nvPr/>
        </p:nvSpPr>
        <p:spPr>
          <a:xfrm>
            <a:off x="1486080" y="4924440"/>
            <a:ext cx="27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the content of this fi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6T00:24:46Z</dcterms:created>
  <dc:creator>GMW</dc:creator>
  <dc:description/>
  <dc:language>en-US</dc:language>
  <cp:lastModifiedBy>Gerald</cp:lastModifiedBy>
  <cp:lastPrinted>2008-09-26T02:01:20Z</cp:lastPrinted>
  <dcterms:modified xsi:type="dcterms:W3CDTF">2009-04-28T22:03:47Z</dcterms:modified>
  <cp:revision>41</cp:revision>
  <dc:subject/>
  <dc:title>Simplifying the Home Network</dc:title>
</cp:coreProperties>
</file>